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694-299C-4611-A7A1-D5351FAB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607-8CFF-4F99-A8CE-03D201CA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029-6B80-415A-821D-80661B58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526-8292-4133-B259-A72577C6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F433-18CB-47B2-AEFA-D5D39BC7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73FB-CE0B-45CC-A23F-85FE2EFA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FB27-BB9F-4615-A02B-2EDFADFE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C483-1E3E-4E27-A414-29EE2BF9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27CC-744F-4D0F-B60F-F0023CBF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B7DA-9FFA-47B2-B2C9-98C27DC2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FC1C-EAA1-465D-85B7-135B9D4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C85-130D-4A84-9916-567A1F1B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AE69-74A0-410E-929D-749EA3B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DAC0-65BC-4D0D-BED3-CB9BB50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19A4-17B6-4D81-B39C-2117AC9B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0594-395C-4FC7-9AE2-9B21561C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1E84-5AC9-4532-B9F3-7AFE34DE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8CC-BC65-49C9-B1C6-5AE690E4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763-B2F5-4047-929E-56B21FC7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CA6-94BA-44B5-A42F-AADC9E7C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0CC-40DD-4678-81D5-022766C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7CA-10FB-422A-B834-DD4060D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7F2-17B8-416B-B93B-764407D4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076-FFEB-4016-BE90-041BA086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urier New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3CB8-15FE-4BAA-B095-44B0DFEAFB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urier New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220F-67C6-46C3-8624-AC98B7B3B7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monstrations.wolfram.com/SimulationOfASimpleGasPressureModel/" TargetMode="External"/><Relationship Id="rId2" Type="http://schemas.openxmlformats.org/officeDocument/2006/relationships/hyperlink" Target="http://www.google.com/url?sa=i&amp;rct=j&amp;q=balloon&amp;source=images&amp;cd=&amp;cad=rja&amp;docid=ZyUEQIGT0k0xuM&amp;tbnid=IR0BPUIQyuWp1M:&amp;ved=0CAUQjRw&amp;url=http%3A%2F%2Frestaurantreservationwallpaper.blogspot.com%2F2012%2F10%2Falloons.html&amp;ei=l-tSUbbDOs-60AH_uIDwCg&amp;psig=AFQjCNGEMYWMoz9cOXJfuaTEMUlDG-U0Qw&amp;ust=1364475093510345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google.com/url?sa=i&amp;rct=j&amp;q=volume+and+pressure&amp;source=images&amp;cd=&amp;cad=rja&amp;docid=eUYzt5uMS5mb5M&amp;tbnid=uu5SP95YftBJWM:&amp;ved=0CAUQjRw&amp;url=http%3A%2F%2Fjiejundai-ttec4842-automotiveengines.blogspot.com%2F2011_04_01_archive.html&amp;ei=rOxSUaDwKYOB0AHwm4DwBw&amp;psig=AFQjCNGVAITaMd9zmhJ3iK_i3nEoHZg0lQ&amp;ust=1364475435438136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earch.ask.com/picdetails?o=2159&amp;gct=hp&amp;q=railroad+tank+car&amp;surl=http%3A%2F%2Fwww.search.ask.com%2Fpictures%3Fo%3D2159%26tpr%3D1%26gct%3Dhp%26q%3Drailroad%2Btank%2Bcar&amp;purl=http%3A%2F%2Fwww.alaskarails.org%2Ffp%2Ftankcars.html&amp;iurl=http%3A%2F%2Fwww.alaskarails.org%2Ffp%2Ftankcars%2FJC-tank_tn.jpg&amp;iw=200&amp;ih=133&amp;turl=http%3A%2F%2Fmedia2.picsearch.com%2Fis%3Fuz96k6ce-3Du5tgrn6eUAu3tDcvvB2iGMoqflPVZlHw&amp;tw=128&amp;th=8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File:Pressure_exerted_by_collisions.sv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google.com/url?sa=i&amp;rct=j&amp;q=gases&amp;source=images&amp;cd=&amp;cad=rja&amp;docid=dG2_7QNxr51mbM&amp;tbnid=XPAH_hynMyd1jM:&amp;ved=0CAUQjRw&amp;url=http%3A%2F%2Fwww.tanklessisgreen.com%2Femit-less-greenhouse-gases%2F&amp;ei=8OFSUfjPEMLC0QH254GgBw&amp;bvm=bv.44342787,d.dmg&amp;psig=AFQjCNEltNb5X6SH3hhe0xp8vD1SpbS1xA&amp;ust=1364472660958654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number+of+gas+particles+and+pressure&amp;source=images&amp;cd=&amp;cad=rja&amp;docid=BDqo9SdQ455pAM&amp;tbnid=AifS1BkYgL5IVM:&amp;ved=0CAUQjRw&amp;url=http%3A%2F%2Fsites.google.com%2Fsite%2Fmchsregentschemistry%2Fgases&amp;ei=u-JSUZDzNsrO0wGFi4GYBA&amp;bvm=bv.44342787,d.dmg&amp;psig=AFQjCNFMRQqtvtjsonmZL-eT-o_kiLcq1g&amp;ust=1364472868662082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demonstrations.wolfram.com/SimulationOfASimpleGasPressureMode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emonstrations.wolfram.com/SimulationOfASimpleGasPressureModel/" TargetMode="External"/><Relationship Id="rId2" Type="http://schemas.openxmlformats.org/officeDocument/2006/relationships/hyperlink" Target="http://www.google.com/url?sa=i&amp;rct=j&amp;q=gas+pressure+and+temperature&amp;source=images&amp;cd=&amp;cad=rja&amp;docid=1L8zjLc54vqz8M&amp;tbnid=d4aIYRvyHEP5VM:&amp;ved=0CAUQjRw&amp;url=http%3A%2F%2Fwww.oswego.edu%2F~kanbur%2Fa100%2Flecture10.html&amp;ei=qelSUfaaBYfF0AH_sYGIBw&amp;bvm=bv.44342787,d.dmQ&amp;psig=AFQjCNGEbGv5xFHPIhGioCvPR-MiYGBe7Q&amp;ust=1364474585267095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i6sDTXE9TE" TargetMode="External"/><Relationship Id="rId2" Type="http://schemas.openxmlformats.org/officeDocument/2006/relationships/hyperlink" Target="http://www.youtube.com/watch?v=Zz95_VvTxZ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pressure+gauge&amp;source=images&amp;cd=&amp;cad=rja&amp;docid=aJbTSBOTk186EM&amp;tbnid=bE_zZh0a8ltxaM:&amp;ved=0CAUQjRw&amp;url=http%3A%2F%2Fcommons.wikimedia.org%2Fwiki%2FFile%3ARegulator_valve_%2526_pressure_gauge.JPG&amp;ei=3PFSUfDQBqfh0QHls4CABw&amp;psig=AFQjCNG8i_JOBGupKKh8fwMV2dfdNg7Ing&amp;ust=1364476747505192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url?sa=i&amp;rct=j&amp;q=tire+pressure+gauge&amp;source=images&amp;cd=&amp;cad=rja&amp;docid=NJRL3NUEmBMzXM&amp;tbnid=4eAVk60LOVFhKM:&amp;ved=0CAUQjRw&amp;url=http%3A%2F%2Finfo.autoworksmn.com%2Fauto-repair-blog%2Fbid%2F89245%2FAdam-s-Service-Tip-How-to-Rotate-Tires&amp;ei=IfJSUdHWC9Gz0QH4nYCgAg&amp;psig=AFQjCNG9hmd19Za3LBMdYDqqaVfq-OCG7w&amp;ust=136447682163625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Courier New"/>
              </a:rPr>
              <a:t>Chapter 11</a:t>
            </a:r>
            <a:endParaRPr b="0" lang="en-US" sz="48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havior of Gases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Pressure Units and Conversions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 SI unit for measuring pressure is the pascal (Pa)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t is easier to use kilopascals (kPa) because the unit is bigger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17080">
              <a:lnSpc>
                <a:spcPct val="10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1 kPa = 1000 Pa</a:t>
            </a:r>
            <a:endParaRPr b="0" lang="en-US" sz="23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quivale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 Values/Units of Atmospheric Pressur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1.00 atm = 760 mmHg = 14.7 psi = 101.3 kP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the Factor Label Method to convert from one unit of pressure to anoth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tire gauge reads 22.7psi, what is the same measurement in atmospheres (atm)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0" name="TextBox 1" descr=""/>
          <p:cNvPicPr/>
          <p:nvPr/>
        </p:nvPicPr>
        <p:blipFill>
          <a:blip r:embed="rId1"/>
          <a:stretch/>
        </p:blipFill>
        <p:spPr>
          <a:xfrm>
            <a:off x="3127320" y="5846760"/>
            <a:ext cx="28465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More Pressure Calculations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bsolute pressure is the sum of the atmospheric pressure and the measured pressure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hat is the absolute pressure when the gauge pressure is 44 psi?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 Narro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What is the gauge pressure in kPa when the absolute pressure is 890 mm Hg?</a:t>
            </a: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2590920" y="33526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 Narrow"/>
              </a:rPr>
              <a:t>44 psi + 14.7 psi = 59 p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extBox 5" descr=""/>
          <p:cNvPicPr/>
          <p:nvPr/>
        </p:nvPicPr>
        <p:blipFill>
          <a:blip r:embed="rId1"/>
          <a:stretch/>
        </p:blipFill>
        <p:spPr>
          <a:xfrm>
            <a:off x="1298520" y="4863960"/>
            <a:ext cx="72360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3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uming the walls of a container are weak and that atmospheric pressure is 1atm, would a container with a gas at a pressure of 300kP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ode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ode?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plain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Volume and Pressure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9360">
            <a:solidFill>
              <a:srgbClr val="cc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are volume and gas pressure related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containers with fixed volume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f the number of gas particles and temperature remain constant, then gas pressure will be inversely proportional to the volume of the container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lnSpc>
                <a:spcPct val="100000"/>
              </a:lnSpc>
              <a:spcBef>
                <a:spcPts val="624"/>
              </a:spcBef>
              <a:buClr>
                <a:srgbClr val="7f7f7f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containers with adjustable volumes</a:t>
            </a:r>
            <a:endParaRPr b="0" lang="en-US" sz="2500" spc="-1" strike="noStrike">
              <a:solidFill>
                <a:srgbClr val="000000"/>
              </a:solidFill>
              <a:latin typeface="Courier New"/>
            </a:endParaRPr>
          </a:p>
          <a:p>
            <a:pPr lvl="3" marL="1267920" indent="-3189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s the pressure of the gas increase either due to an increase in the number of particles or an increase in temperature, the volume will increase. 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3" marL="1267920" indent="-3189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s the volume increases, the pressure decreases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6320" y="6172200"/>
            <a:ext cx="11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demonstrations.wolfram.com/SimulationOfASimpleGasPressureModel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ttp://1.bp.blogspot.com/_ZEQTZAmHudI/TQJavc_RBxI/AAAAAAAACKw/YLSOMCvuDSQ/s1600/Balloon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80440" y="5653080"/>
            <a:ext cx="1163520" cy="1165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4.bp.blogspot.com/-EijYbNsMpp0/TajdaQwYkYI/AAAAAAAAAEI/rNqnILzQ8C0/s1600/spacesuit_boyle_t.jpg">
            <a:hlinkClick r:id="rId4"/>
          </p:cNvPr>
          <p:cNvPicPr/>
          <p:nvPr/>
        </p:nvPicPr>
        <p:blipFill>
          <a:blip r:embed="rId5"/>
          <a:srcRect l="0" t="23793" r="0" b="19403"/>
          <a:stretch/>
        </p:blipFill>
        <p:spPr>
          <a:xfrm>
            <a:off x="3809880" y="3484440"/>
            <a:ext cx="20574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Narrow"/>
              </a:rPr>
              <a:t>Boyle’s Law</a:t>
            </a:r>
            <a:endParaRPr b="0" lang="en-US" sz="38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yle’s law states that the pressure and volume of a gas at constant temperature are inversely proportional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496080" indent="-496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oyle’s law formula:  </a:t>
            </a:r>
            <a:r>
              <a:rPr b="0" lang="en-US" sz="2600" spc="-1" strike="noStrike">
                <a:solidFill>
                  <a:srgbClr val="990000"/>
                </a:solidFill>
                <a:latin typeface="Arial Narrow"/>
              </a:rPr>
              <a:t>P</a:t>
            </a:r>
            <a:r>
              <a:rPr b="0" lang="en-US" sz="2600" spc="-1" strike="noStrike" baseline="-25000">
                <a:solidFill>
                  <a:srgbClr val="990000"/>
                </a:solidFill>
                <a:latin typeface="Arial Narrow"/>
              </a:rPr>
              <a:t>1</a:t>
            </a:r>
            <a:r>
              <a:rPr b="0" lang="en-US" sz="2600" spc="-1" strike="noStrike">
                <a:solidFill>
                  <a:srgbClr val="990000"/>
                </a:solidFill>
                <a:latin typeface="Arial Narrow"/>
              </a:rPr>
              <a:t>V</a:t>
            </a:r>
            <a:r>
              <a:rPr b="0" lang="en-US" sz="2600" spc="-1" strike="noStrike" baseline="-25000">
                <a:solidFill>
                  <a:srgbClr val="990000"/>
                </a:solidFill>
                <a:latin typeface="Arial Narrow"/>
              </a:rPr>
              <a:t>1</a:t>
            </a:r>
            <a:r>
              <a:rPr b="0" lang="en-US" sz="2600" spc="-1" strike="noStrike">
                <a:solidFill>
                  <a:srgbClr val="990000"/>
                </a:solidFill>
                <a:latin typeface="Arial Narrow"/>
              </a:rPr>
              <a:t>=P</a:t>
            </a:r>
            <a:r>
              <a:rPr b="0" lang="en-US" sz="2600" spc="-1" strike="noStrike" baseline="-25000">
                <a:solidFill>
                  <a:srgbClr val="990000"/>
                </a:solidFill>
                <a:latin typeface="Arial Narrow"/>
              </a:rPr>
              <a:t>2</a:t>
            </a:r>
            <a:r>
              <a:rPr b="0" lang="en-US" sz="2600" spc="-1" strike="noStrike">
                <a:solidFill>
                  <a:srgbClr val="990000"/>
                </a:solidFill>
                <a:latin typeface="Arial Narrow"/>
              </a:rPr>
              <a:t>V</a:t>
            </a:r>
            <a:r>
              <a:rPr b="0" lang="en-US" sz="2600" spc="-1" strike="noStrike" baseline="-25000">
                <a:solidFill>
                  <a:srgbClr val="990000"/>
                </a:solidFill>
                <a:latin typeface="Arial Narro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496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496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 A sample of nitrogen collected in the laboratory occupies a volume of 725 mL at a pressure of 0.971 atm.  What volume will the gas occupy at a pressure of 1.40 atm, assuming the temperature stays constant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4" name="Picture 6" descr="Boyle's%20Law%20graph"/>
          <p:cNvPicPr/>
          <p:nvPr/>
        </p:nvPicPr>
        <p:blipFill>
          <a:blip r:embed="rId1"/>
          <a:stretch/>
        </p:blipFill>
        <p:spPr>
          <a:xfrm>
            <a:off x="5400720" y="243828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1" descr=""/>
          <p:cNvPicPr/>
          <p:nvPr/>
        </p:nvPicPr>
        <p:blipFill>
          <a:blip r:embed="rId2"/>
          <a:stretch/>
        </p:blipFill>
        <p:spPr>
          <a:xfrm>
            <a:off x="1828800" y="5413320"/>
            <a:ext cx="1206360" cy="6526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5" descr=""/>
          <p:cNvPicPr/>
          <p:nvPr/>
        </p:nvPicPr>
        <p:blipFill>
          <a:blip r:embed="rId3"/>
          <a:stretch/>
        </p:blipFill>
        <p:spPr>
          <a:xfrm>
            <a:off x="3554280" y="5486400"/>
            <a:ext cx="36576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4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ing Boyle’s Law, calculate the initial pressure of a gas occupying 200mL if the final volume is 15mL and the final pressure is 18.8 psi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Volume and Temperature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are volume and the temperature of a gas related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hen a gas is heated, the kinetic energy of the particles increase and particles move a greater distance away from one another creating a larger volume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hen a gas is cooled the kinetic energy of the particles decrease and particles mover closer together creating a smaller volume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934320" y="5334120"/>
            <a:ext cx="1447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demonstrations.wolfram.com/SimulationOfASimpleGasPressureModel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://seniorphysics.com/physics/charles_law.jpg"/>
          <p:cNvPicPr/>
          <p:nvPr/>
        </p:nvPicPr>
        <p:blipFill>
          <a:blip r:embed="rId1"/>
          <a:stretch/>
        </p:blipFill>
        <p:spPr>
          <a:xfrm>
            <a:off x="2438280" y="4643280"/>
            <a:ext cx="3505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Charles’ Law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8596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les’ law states that at constant pressure, the volume of a gas is directly proportional to its Kelvin temperature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les’ law formula: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y does the air in balloons expand when heated and contract when cooled?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5" name="Picture 5" descr="Charles's%20Law%20graph"/>
          <p:cNvPicPr/>
          <p:nvPr/>
        </p:nvPicPr>
        <p:blipFill>
          <a:blip r:embed="rId1"/>
          <a:stretch/>
        </p:blipFill>
        <p:spPr>
          <a:xfrm>
            <a:off x="6858000" y="2438280"/>
            <a:ext cx="1790640" cy="14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harles-Law1"/>
          <p:cNvPicPr/>
          <p:nvPr/>
        </p:nvPicPr>
        <p:blipFill>
          <a:blip r:embed="rId2"/>
          <a:srcRect l="3840" t="9980" r="3840" b="37277"/>
          <a:stretch/>
        </p:blipFill>
        <p:spPr>
          <a:xfrm>
            <a:off x="3276720" y="4419720"/>
            <a:ext cx="3581280" cy="2271600"/>
          </a:xfrm>
          <a:prstGeom prst="rect">
            <a:avLst/>
          </a:prstGeom>
          <a:ln w="38160">
            <a:solidFill>
              <a:srgbClr val="330033"/>
            </a:solidFill>
            <a:miter/>
          </a:ln>
        </p:spPr>
      </p:pic>
      <p:pic>
        <p:nvPicPr>
          <p:cNvPr id="157" name="TextBox 1" descr=""/>
          <p:cNvPicPr/>
          <p:nvPr/>
        </p:nvPicPr>
        <p:blipFill>
          <a:blip r:embed="rId3"/>
          <a:stretch/>
        </p:blipFill>
        <p:spPr>
          <a:xfrm>
            <a:off x="4114800" y="2803680"/>
            <a:ext cx="167652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Charles’ Law Practice Problem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 container of oxygen has a volume of 349 mL at a temperature of 22°C.  What volume will the gas occupy at 50°C?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1808280" y="29034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mperatures in any gas law problem must be in Kelvin.  Remember to always convert Celsius to Kelvin before attempting to solve the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Rectangle 5" descr=""/>
          <p:cNvPicPr/>
          <p:nvPr/>
        </p:nvPicPr>
        <p:blipFill>
          <a:blip r:embed="rId1"/>
          <a:stretch/>
        </p:blipFill>
        <p:spPr>
          <a:xfrm>
            <a:off x="3809880" y="4035600"/>
            <a:ext cx="1200240" cy="65232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8" descr=""/>
          <p:cNvPicPr/>
          <p:nvPr/>
        </p:nvPicPr>
        <p:blipFill>
          <a:blip r:embed="rId2"/>
          <a:stretch/>
        </p:blipFill>
        <p:spPr>
          <a:xfrm>
            <a:off x="5784840" y="4095720"/>
            <a:ext cx="2414520" cy="63504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 9" descr=""/>
          <p:cNvPicPr/>
          <p:nvPr/>
        </p:nvPicPr>
        <p:blipFill>
          <a:blip r:embed="rId3"/>
          <a:stretch/>
        </p:blipFill>
        <p:spPr>
          <a:xfrm>
            <a:off x="1676520" y="3895560"/>
            <a:ext cx="1676160" cy="1036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3809880" y="5181480"/>
            <a:ext cx="15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382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5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would have been the initial temperature of a system that had an initial volume of 550mL, a final volume of 250mL and a final temperature of 297K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1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much force do you think it would take to crush this railroad tank car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1" name="Picture 2" descr="http://media2.picsearch.com/is?uz96k6ce-3Du5tgrn6eUAu3tDcvvB2iGMoqflPVZlH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895480"/>
            <a:ext cx="3948120" cy="2590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3624120" y="59500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tune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Combined Gas Law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mbination of Boyle’s law and Charles’ law is called th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gas law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et of conditions 0°C and 1 atm are used so often that they are called standard temperature and pressure or STP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gas law formula: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xample:  A sample of hydrogen gas has a volume of 65.0 mL at a pressure of 0.992 atm and a temperature of 16°C.  What volume will the hydrogen occupy at 0.984 atm and 25°C?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69" name="TextBox 3" descr=""/>
          <p:cNvPicPr/>
          <p:nvPr/>
        </p:nvPicPr>
        <p:blipFill>
          <a:blip r:embed="rId1"/>
          <a:stretch/>
        </p:blipFill>
        <p:spPr>
          <a:xfrm>
            <a:off x="4657680" y="3432240"/>
            <a:ext cx="2206800" cy="106668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4" descr=""/>
          <p:cNvPicPr/>
          <p:nvPr/>
        </p:nvPicPr>
        <p:blipFill>
          <a:blip r:embed="rId2"/>
          <a:stretch/>
        </p:blipFill>
        <p:spPr>
          <a:xfrm>
            <a:off x="304920" y="5675400"/>
            <a:ext cx="22064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5" descr=""/>
          <p:cNvPicPr/>
          <p:nvPr/>
        </p:nvPicPr>
        <p:blipFill>
          <a:blip r:embed="rId3"/>
          <a:stretch/>
        </p:blipFill>
        <p:spPr>
          <a:xfrm>
            <a:off x="2365200" y="5675400"/>
            <a:ext cx="2200320" cy="103032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1" descr=""/>
          <p:cNvPicPr/>
          <p:nvPr/>
        </p:nvPicPr>
        <p:blipFill>
          <a:blip r:embed="rId4"/>
          <a:stretch/>
        </p:blipFill>
        <p:spPr>
          <a:xfrm>
            <a:off x="4565520" y="5711760"/>
            <a:ext cx="368784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The Law of Combining Gas Volumes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3160" y="2209680"/>
            <a:ext cx="3809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observation that at the same temperature and pressure, volumes of gases combine or decompose in ratios of small whole numbers is called the law of combining gas volumes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4578480" cy="25146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685800" y="54864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vogadro’s principle states that equal volumes of gases at the same temperature and pressure contain the same number of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Behavior of Gases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properties of gases that are most easily observed are the relationships among pressure, volume, temperature, and mass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It is now possible to predict the physical behavior of gases by the application of certain laws.</a:t>
            </a:r>
            <a:endParaRPr b="0" lang="en-US" sz="21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5" name="Picture 5" descr="air balloon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A figure showing pressure exerted by particle collisions inside a closed container. The collisions that exert the pressure are highlighted in re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4421160"/>
            <a:ext cx="2590920" cy="230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www.tanklessisgreen.com/u/image/img13.jpg">
            <a:hlinkClick r:id="rId4"/>
          </p:cNvPr>
          <p:cNvPicPr/>
          <p:nvPr/>
        </p:nvPicPr>
        <p:blipFill>
          <a:blip r:embed="rId5"/>
          <a:srcRect l="0" t="15296" r="0" b="7403"/>
          <a:stretch/>
        </p:blipFill>
        <p:spPr>
          <a:xfrm>
            <a:off x="1282680" y="4421160"/>
            <a:ext cx="28195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Particles and Pressure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are number of particles and gas pressure related?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pressure of a gas is the force per unit are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pressure of a gas is directly proportional to the number of contained particles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more often gas particles collide with the walls of their container, the greater the pressure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re gas particles mean a greater number of collis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0" name="Picture 5" descr="http://www.atomsinmotion.com/resources/article/pressureVsNumAtom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676520"/>
            <a:ext cx="270036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995400" y="5410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demonstrations.wolfram.com/SimulationOfASimpleGasPressureMode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Temperature and Pressure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53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are temperature and gas pressure related?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t higher temperatures, the particles in a gas have greater kinetic energy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particles move faster and collide with the walls of the container more often and with greater force, so the pressure increases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e volume of the container and the number of particles of gas are not changed, the pressure of a gas increases in direct proportion to the Kelvin temperatur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6629400" y="5238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demonstrations.wolfram.com/SimulationOfASimpleGasPressureMode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www.oswego.edu/~kanbur/a100/images/pressure.jpg">
            <a:hlinkClick r:id="rId2"/>
          </p:cNvPr>
          <p:cNvPicPr/>
          <p:nvPr/>
        </p:nvPicPr>
        <p:blipFill>
          <a:blip r:embed="rId3"/>
          <a:srcRect l="0" t="2181" r="0" b="24942"/>
          <a:stretch/>
        </p:blipFill>
        <p:spPr>
          <a:xfrm>
            <a:off x="2286000" y="4916520"/>
            <a:ext cx="41911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Check This Out!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 Narrow"/>
                <a:hlinkClick r:id="rId1"/>
              </a:rPr>
              <a:t>http://www.youtube.com/watch?v=Bi6sDTXE9T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 Narrow"/>
                <a:hlinkClick r:id="rId2"/>
              </a:rPr>
              <a:t>http://www.youtube.com/watch?v=Zz95_VvTxZM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Warm-up #2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esterday we saw what happens when the pressure on the outside of a system is greater than the pressure on the inside of a system. 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happens when the pressure inside is greater than the pressure outside?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Devices to Measure Pressure 1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 barometer is an instrument that measures the pressure exerted by the atmosphere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height of the mercury column measures the pressure exerted by the atmosphere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standard atmosphere (atm) is the unit used to measure pressure; the pressure that supports a 760-mm column of mercury.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1.00 atm = 760 mmHg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2" name="Picture 5" descr="merc_barometer"/>
          <p:cNvPicPr/>
          <p:nvPr/>
        </p:nvPicPr>
        <p:blipFill>
          <a:blip r:embed="rId1"/>
          <a:stretch/>
        </p:blipFill>
        <p:spPr>
          <a:xfrm>
            <a:off x="6203880" y="2057400"/>
            <a:ext cx="2940120" cy="2909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5899320" y="2666880"/>
            <a:ext cx="1447560" cy="337320"/>
          </a:xfrm>
          <a:prstGeom prst="rect">
            <a:avLst/>
          </a:prstGeom>
          <a:solidFill>
            <a:srgbClr val="d3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0000"/>
                </a:solidFill>
                <a:latin typeface="Arial"/>
              </a:rPr>
              <a:t>760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Narrow"/>
              </a:rPr>
              <a:t>Devices to Measure Pressure 2</a:t>
            </a:r>
            <a:endParaRPr b="0" lang="en-US" sz="4200" spc="-1" strike="noStrike">
              <a:solidFill>
                <a:srgbClr val="330033"/>
              </a:solidFill>
              <a:latin typeface="Courier Ne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barometer can only measure atmospheric pressure and absolute pressure (pressure of all gases in the atmosphere)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measure the pressure inside a bicycle tire or in an oxygen tank a pressure gauge is needed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s measures pressure above atmospheric pressure.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6" name="Picture 5" descr="http://upload.wikimedia.org/wikipedia/commons/4/4a/Regulator_valve_%26_pressure_gau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4495680"/>
            <a:ext cx="2438280" cy="184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http://info.autoworksmn.com/Portals/94047/images/tire%20pressure%20gau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49320" y="4495680"/>
            <a:ext cx="27655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04:14Z</dcterms:created>
  <dc:creator>udsd</dc:creator>
  <dc:description/>
  <dc:language>en-US</dc:language>
  <cp:lastModifiedBy>Dawn</cp:lastModifiedBy>
  <dcterms:modified xsi:type="dcterms:W3CDTF">2013-03-29T15:14:20Z</dcterms:modified>
  <cp:revision>54</cp:revision>
  <dc:subject/>
  <dc:title>Chapter 11</dc:title>
</cp:coreProperties>
</file>